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11D-7357-4046-997D-C153CD52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F30-5001-4B54-B652-FC4DC687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B90-9C3F-4770-AB57-A6AE6E18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7DC-23F2-4CD4-803C-432A6B1D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AB1-E6D0-4F14-8ED9-4D1453FA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027-2744-4E2C-A52E-7015677C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069-2F6F-4FE4-8441-3626C7C3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BD1-C3B9-4961-80FE-B4487F8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A34-004F-40AC-A312-D908D84B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03C-DD67-4E6C-A79C-7E401002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DEC-D041-40CB-8A79-CCD08FEB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B36-0355-41CE-B9F7-CD0DC055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E79-FF5E-4C1B-93CC-0D2270251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63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571680" y="1571760"/>
            <a:ext cx="742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google.ru/imghp?hl=ru&amp;tab=wi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yandex.ru/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ttp://rebus.detsky-mir.com/2871/rebusy_po_matematike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znajka.net/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www.prozagadki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ttp://images.yandex.ru/yands</a:t>
            </a:r>
            <a:r>
              <a:rPr b="1" lang="en-US" sz="1600" spc="-1" strike="noStrike">
                <a:solidFill>
                  <a:srgbClr val="3333ff"/>
                </a:solidFill>
                <a:latin typeface="Calibri"/>
              </a:rPr>
              <a:t>earch?e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d=1&amp;text=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етские  ф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3643200"/>
            <a:ext cx="650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Автор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Картошкина Наталия Ю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ОУ ЦО № 656 им. А. 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5786280"/>
            <a:ext cx="700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195560"/>
            <a:ext cx="39002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27160"/>
            <a:ext cx="357840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50660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1000"/>
            <a:ext cx="409104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0520"/>
            <a:ext cx="4284360" cy="2048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27440"/>
            <a:ext cx="41277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27160"/>
            <a:ext cx="4730760" cy="20494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2920"/>
            <a:ext cx="498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Ерук</cp:lastModifiedBy>
  <dcterms:modified xsi:type="dcterms:W3CDTF">2005-01-01T18:29:25Z</dcterms:modified>
  <cp:revision>59</cp:revision>
  <dc:subject/>
  <dc:title>Слайд 1</dc:title>
</cp:coreProperties>
</file>